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30F-08F2-4E31-A190-AF428773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CCB-22F7-4EC4-9E46-A0B0BEF8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47B-8D3E-492B-9816-751F9AC8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043-E6A1-4E26-9981-1D9C5238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7A5-19F5-4642-A6B2-A1EE1490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072-9033-49B1-B761-273A4107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AB8-DCBB-4087-93A3-A03F2FCC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F4E-A27D-498D-B8C8-018824D9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F07-7C83-400A-9EE5-87D19BC9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FEE-3CCE-4FA9-A8D6-64EFFFCF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78C-F1D7-4B7B-8054-DF6DF2F1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4BB-B96B-41E8-845B-E67AE926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CB4D-0E86-4051-93DD-AADB31F6E7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2000" y="306864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997360"/>
            <a:ext cx="36831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456000" cy="259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105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1:24Z</dcterms:modified>
  <cp:revision>2</cp:revision>
  <dc:subject/>
  <dc:title>Diapositive 1</dc:title>
</cp:coreProperties>
</file>